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1AA-B8E3-4138-9B74-508A254F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8CB-5C0B-420D-9ECB-2AAC48C8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63C-2B60-48F9-8C79-5664A4C5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F0C-2AB9-4212-91F6-3DE816DC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F2CE-4007-4A0A-8010-C07BA309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1F93-581C-4B90-AA79-53C021B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4BE-033F-426C-ABFD-261CF65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AC6B-7DDE-4FF6-ACD3-2247B3A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6190-0DA1-4FCF-A058-5285CEB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F49-F41D-4645-A7B5-8D25CA3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40C5-23F5-4D19-80AC-B813ED6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7AC-455E-4DA1-AE73-5902681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6DD-D563-4E80-B33A-0CE0320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E0E5-BCE1-4203-A43D-4901E07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6857-B65E-44B6-B088-CB4D32B7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732-DF73-48BB-9EF9-E7A3C0AB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9119-156C-46FC-B87E-EE8BBA1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A55-F637-4CFF-85AC-2EBA4BE1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EBF-D399-4C2B-91A8-03FA2D0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62C-52F7-4A4C-9CFE-7D4CFFA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70D-A4B2-4851-B940-E2B8952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A5E-02EF-4F6C-BCF9-5A5CB44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40A-7221-42B0-94D0-10E02E7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071-83EF-4206-B37D-59777AA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0F1-0A3B-41D1-8E42-29881455D8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D1E-A5CB-46DF-AC4D-2F2CB5DDE1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112160" cy="316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нтересное и меткое “Арифметическое” сравнение сделал Л.Н. Толстой. Он говорил, “что человек подобен дроби, числитель которой есть то, что человек представляет собой, а знаменатель – то, что он думает о себе. Чем большего человек о себе мнения, тем больше знаменатель, а значит, тем меньше дробь”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ма учебного проекта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По жизни с дробя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13114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мелкие свинцовые шарики для стрельбы из охотничьего ружь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частые прерывистые звуки, например “барабанная…”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может быть правильной или неправильной, обыкновенной или десятич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то слово – “Дробь”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MPj04393770000[1]"/>
          <p:cNvPicPr/>
          <p:nvPr/>
        </p:nvPicPr>
        <p:blipFill>
          <a:blip r:embed="rId1"/>
          <a:stretch/>
        </p:blipFill>
        <p:spPr>
          <a:xfrm>
            <a:off x="250920" y="4267080"/>
            <a:ext cx="3457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используем дроби, когда хотим узнать время. Когда взвешивают товар в магазине. В измерениях. Дроби окружают нас везде. С помощью дробей мы можем измерять длины, делить целое на части. А как измерить рост человека или расстояние между объектами, не зная дробе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ё вокруг – дроб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, мы с вами на уроках будем решать задачи, применяя знания действий с дробями, которые решаются только с опорой на ваш жизненный опыт или опыт, взятый из истории нашей страны, закрепить знания о дробях. И, я думаю, что для вас решение задач на дроби приобретет большой смысл. Цель– решить практические задачи на дроби, взятые из реаль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казал Р.Декар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Любопытный отыскивает редкости только затем, чтобы им удивляться; любознательный же затем, чтобы узнать их и перестать удивляться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будем же любознательны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9ffff"/>
                </a:solidFill>
                <a:latin typeface="Arial"/>
              </a:rPr>
              <a:t>Основополагающий вопрос:</a:t>
            </a:r>
            <a:br>
              <a:rPr sz="4000"/>
            </a:br>
            <a:r>
              <a:rPr b="1" i="1" lang="ru-RU" sz="3200" spc="-1" strike="noStrike">
                <a:solidFill>
                  <a:srgbClr val="f2f2f2"/>
                </a:solidFill>
                <a:latin typeface="Arial"/>
              </a:rPr>
              <a:t>можно ли обойтись без дробей?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320" y="1600200"/>
            <a:ext cx="814356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"/>
              </a:rPr>
              <a:t>Проблем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4f4"/>
                </a:solidFill>
                <a:latin typeface="Arial"/>
              </a:rPr>
              <a:t>Когда дроби начали дели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4f4"/>
                </a:solidFill>
                <a:latin typeface="Arial"/>
              </a:rPr>
              <a:t>Без дробей на свете жить слож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1f6"/>
                </a:solidFill>
                <a:latin typeface="Arial"/>
              </a:rPr>
              <a:t>Как разделить 2 яблока на трои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285920" y="435780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"/>
              </a:rPr>
              <a:t>Учеб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обыкновенные дроби, числитель и знаменатель обыкновенной дроб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928800" y="2214720"/>
            <a:ext cx="2357280" cy="642600"/>
          </a:xfrm>
          <a:prstGeom prst="rect">
            <a:avLst/>
          </a:prstGeom>
          <a:gradFill rotWithShape="0">
            <a:gsLst>
              <a:gs pos="0">
                <a:srgbClr val="7887a1"/>
              </a:gs>
              <a:gs pos="100000">
                <a:srgbClr val="9eb2d4"/>
              </a:gs>
            </a:gsLst>
            <a:lin ang="16200000"/>
          </a:gradFill>
          <a:ln w="9360">
            <a:solidFill>
              <a:srgbClr val="a5b5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лад одно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357200" y="5429160"/>
            <a:ext cx="2000520" cy="642600"/>
          </a:xfrm>
          <a:prstGeom prst="rect">
            <a:avLst/>
          </a:prstGeom>
          <a:gradFill rotWithShape="0">
            <a:gsLst>
              <a:gs pos="0">
                <a:srgbClr val="0069c6"/>
              </a:gs>
              <a:gs pos="100000">
                <a:srgbClr val="008e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по груп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4500720" y="928800"/>
            <a:ext cx="3929040" cy="1191240"/>
          </a:xfrm>
          <a:prstGeom prst="rect">
            <a:avLst/>
          </a:prstGeom>
          <a:gradFill rotWithShape="0">
            <a:gsLst>
              <a:gs pos="0">
                <a:srgbClr val="008181"/>
              </a:gs>
              <a:gs pos="100000">
                <a:srgbClr val="00afaf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 задания                                                               ( самостоятельный поиск информации, выполнение тес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Диаграмма 7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Дроби вокруг на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Истори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Как получаютс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Где встречаютс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Задачи на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6" descr="image010"/>
          <p:cNvPicPr/>
          <p:nvPr/>
        </p:nvPicPr>
        <p:blipFill>
          <a:blip r:embed="rId1"/>
          <a:stretch/>
        </p:blipFill>
        <p:spPr>
          <a:xfrm>
            <a:off x="3902040" y="3316320"/>
            <a:ext cx="5254560" cy="396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633e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и всякие нужны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и разные важны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ь учи, тогда сверкнёт тебе удача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Если будешь дроби знать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Точно смысл их понимать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танет лёгкой даже трудная 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1" descr="C:\Documents and Settings\Slushatel-1-2\Мои документы\ksenya\см1.gif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429680" y="142920"/>
            <a:ext cx="157140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13:50Z</dcterms:created>
  <dc:creator>25055</dc:creator>
  <dc:description/>
  <dc:language>en-US</dc:language>
  <cp:lastModifiedBy>25055</cp:lastModifiedBy>
  <dcterms:modified xsi:type="dcterms:W3CDTF">2010-05-24T09:47:01Z</dcterms:modified>
  <cp:revision>42</cp:revision>
  <dc:subject/>
  <dc:title>Слайд 1</dc:title>
</cp:coreProperties>
</file>